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3BE-78DE-41BF-ACFD-5834C83F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E40-44E5-407A-855E-C937684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E0B-ED75-4B30-8E55-31811CD7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A49-8DD8-4612-8A5E-9B7EF4A1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CC3F-AE9B-4957-835D-E61D9AF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784A-A7E7-4DD4-8511-C8D3816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35B-BE44-4098-9094-D415A85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517B-A13F-43AA-B90A-B9EC921C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A7FA-C34E-453F-8F36-40F71F1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626B-7A0E-47A2-BD9B-180A107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2A6B-2737-4C49-A9FB-2C04D85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20B-7AAB-44AD-80E7-3BF84A7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F19-00A3-4678-8504-CC9F9B4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ED0-F1DA-49B4-AEB7-0C41021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303-93C0-4C45-933B-C168B43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2ED5-EEE7-4759-BEEB-FA4936B9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39B-D580-460E-A2F3-151C4613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6BD-1878-479C-B2C5-D4F1C60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8E1-1C58-4B45-A1D0-7893228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850-01F3-4CE4-BFBA-3FB3BF3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B83-2469-4E75-B75B-F6D5E36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AFB-D4B7-4592-8899-E6C7021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796-5F9B-4CEB-B691-21DA0FE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3F9-8CD8-4216-AFA5-6655DBC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F19-4E12-48FF-834A-B2578367543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7EB-8ED5-4D5D-AB32-9C3D446537B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Reaganomic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o what extent was Reaganomics effective in stimulating the economy and solving the nation's problems? Include positive and negative effects.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uke M. Swomle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% tax 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 Rates f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mployment decre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government spen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y increased by 1/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porate tax cuts set precedent for later pres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e raised by 18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t nearly trip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 Fail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 deficit quadrup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 barriers enacted which hurt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w legislation on health, safety, enviro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ed in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20% prospered not suff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 class shouldered the majority of the tax bu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41:06Z</dcterms:created>
  <dc:creator>PA Department of Education</dc:creator>
  <dc:description/>
  <dc:language>en-US</dc:language>
  <cp:lastModifiedBy>PA Department of Education</cp:lastModifiedBy>
  <dcterms:modified xsi:type="dcterms:W3CDTF">2008-05-30T14:23:30Z</dcterms:modified>
  <cp:revision>6</cp:revision>
  <dc:subject/>
  <dc:title>Reaganomics To what extent was Reaganomics effective in stimulating the economy and solving the nation's problems. Include positive and negative effects. Luke M. Swomley  </dc:title>
</cp:coreProperties>
</file>